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B5C1-04AC-4F46-BDCC-6D18A5039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5897-1D5D-41DE-8E6E-033B584DD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2A5A-2BD8-4E14-9E50-EDAF4A174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7B2D-E8C9-43CA-BB90-96B652E1C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A25FB-6EA8-4D93-B586-D532F28FE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BE7BF-CB82-4EDC-9D28-00820990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2868E-DC18-43A7-8809-AE69EE861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3E1A2-C1A5-431B-80F3-65EB3D275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BFED4-2DB6-4E10-8C0D-0D6E8DCE0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1EA13-2D5B-4D27-8471-A56876176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199FC-A562-4FCD-B8D0-BFA1A5A7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EA7A-A6E6-4FF9-BB2D-DEC3C8CDB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4A06C-057A-4765-B05F-16E738CC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B656D-70C2-4975-83C0-B0DC8E99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1CF37-99AB-458A-83D5-815D71C87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DBE9A-7A39-4993-8375-0F4549E43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34C8E-8E39-495C-A493-7C0A75C8C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A813-458A-4017-98D1-A6ED567B8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67E2-D66D-440B-A13B-711164A87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15C7-40DE-48E8-B7FA-BA1CB9D3B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F9E1-9B0C-460A-8F5C-2C3048D13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07CF-EEA5-419A-86FB-9118E1B7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436D-012A-4D9E-A165-F1AA0CC5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1FD7-8AA6-477D-A0F4-DF81926D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5361F-4A78-4B2E-B3F7-8A0B429863C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D6D5A-A639-4FAC-B4FF-086FA4B83F2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533600" y="-166680"/>
            <a:ext cx="6076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0305" descr=""/>
          <p:cNvPicPr/>
          <p:nvPr/>
        </p:nvPicPr>
        <p:blipFill>
          <a:blip r:embed="rId1"/>
          <a:stretch/>
        </p:blipFill>
        <p:spPr>
          <a:xfrm>
            <a:off x="3998880" y="50760"/>
            <a:ext cx="5005440" cy="6664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752760" y="1052640"/>
            <a:ext cx="300168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тыре тип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перамен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по Х.Битструпу, 196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сихология личности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Соотношение генетического и социального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огенетичес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сихоанализ З.Фрейда, «конституционная психология» Э.Кречмер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циогенетичес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ория социализации, теория научения (Э.Торндайк, Б.Скиннер и др.), теория ро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сихогенетичес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ория Ж.Пиаже, психодинамические теор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осоциа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Биосоциальный подход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8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иологические предпосылки (тип нервной системы, половые особенности, задатки и т.п.) определяют некоторую предрасположенность к чему-либо, однако социальная среда оказывает важное влияние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витие личнос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933720"/>
            <a:ext cx="2160720" cy="244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енетичес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ак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40000" y="4581360"/>
            <a:ext cx="3024000" cy="1151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ци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ак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64000" y="530064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12000" y="4797360"/>
            <a:ext cx="2376360" cy="936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Генетическое   и   Социальное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826920" y="2421000"/>
          <a:ext cx="8223480" cy="4317840"/>
        </p:xfrm>
        <a:graphic>
          <a:graphicData uri="http://schemas.openxmlformats.org/drawingml/2006/table">
            <a:tbl>
              <a:tblPr/>
              <a:tblGrid>
                <a:gridCol w="3600720"/>
                <a:gridCol w="4622760"/>
              </a:tblGrid>
              <a:tr h="216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тк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томо-физиологические особенности индивидуума лежащие в основе развития способностей, потенциал индивид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кретная реализация потенциала (задатков), динамическое понятие обозначающее индивидуально-психологические особенности проявляющиеся в успешности выполнения какой либо деятельнос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перамен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стема показателей характеризующих динамические особенности психической деятельности индивид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окупность устойчивых индивидуальных особенностей человека обуславливающих типичные способы поведение в определенных жизненных ситуациях и выражающих отношение человека к миру и к самому себ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Феномен человека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71640" y="3573000"/>
            <a:ext cx="77263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дивид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категория принадлежности к человеческому род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ч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езультат включения в пространство межиндивидуальных связей и может пониматься как относительно устойчивая совокупность психических свойст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дивидуальность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повторимость, уникальность свойств человека, сочетание всех свойств человека как индивида и как лич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74160" y="2565360"/>
            <a:ext cx="601452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ндивидуумом рождаются, Личностью становятс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ндивидуальность отстаивают. (В.П.Зинченко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Закономерности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точник развития лежит вне нас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она ближайшего развития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Л.С.Выготск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нзитивные пери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уктура личности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С.Л.Рубинштейн, К.К.Платон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озн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ности и зада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перамент и харак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обенности психических процессов и состоя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сихологический опыт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5:54:02Z</dcterms:created>
  <dc:creator>Александр</dc:creator>
  <dc:description/>
  <dc:language>en-US</dc:language>
  <cp:lastModifiedBy>юлий</cp:lastModifiedBy>
  <dcterms:modified xsi:type="dcterms:W3CDTF">2009-11-17T11:37:34Z</dcterms:modified>
  <cp:revision>7</cp:revision>
  <dc:subject/>
  <dc:title>Психология личнос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c010000000000010250600207f5200358026400</vt:lpwstr>
  </property>
</Properties>
</file>